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52B-40E9-49CB-B7C7-49C69B5F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A4F-E1A6-4ED3-9821-ABD1352F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853-6097-43A1-BB7E-D418C79C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1CE-64CD-46B4-9BB5-563EA247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41F3-F8DB-4331-B1AC-E9CB5ACC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5996-2C3E-49A0-A032-6B536EB6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1BF9-8C54-448C-8BD4-9C02A87F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858A-E87E-47C0-BB0E-4017CDD6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76AD-2AAF-48D4-9CC5-22E495B2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024A-8999-49D2-BABD-F69DD6D6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3534-AB3B-4BBD-97CF-1970D8A9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61C-F994-4D6E-A3C5-7EA5BB7C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413C-14B2-45D1-917B-120F2932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C773-1A7A-4230-9A59-07284F0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1D3D-AF77-49BA-B23B-C5EB20AC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2B4F-B8B9-4F8E-9219-63B1CE39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DBA0-EFD4-480A-B0B4-9A22CE60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B6D-C375-491E-8CE1-7AF873CA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FD6-5D52-4B3D-9B81-11D31FDD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195-7703-43D3-8841-B817F04E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A4A-2266-421D-AB46-926B2E55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A80-995C-433F-AC10-6DD7E8B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5D1-05E5-43C1-8BC8-FC320855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BBA-5010-40AA-AAF8-A3088AEF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FA9B-FB52-4B7A-A9FF-8090F0B897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1913-C3AA-4398-B640-C87682EE92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330033"/>
                </a:solidFill>
                <a:latin typeface="Times New Roman"/>
              </a:rPr>
              <a:t>Polish Pension Syste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Main features after recent reform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iga, 18 Decembe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Old scheme – pension amou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nsion calculated in the old-scheme amount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. 24% of the base amount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. 1.3% of the assessment basis for each contributory year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. 0.7% of the assessment basis for each non-contributory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se amount equals 100% of average wage from the preceding year, fixed annually 1 Ma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Common pension system in Poland – new schem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First pillar – ZU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a public body – Social Insurance Institution (ZU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cipation is compulso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nanced by current contribu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95760" y="2124000"/>
            <a:ext cx="409104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Second pillar – OF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ist of Open Pension Funds – OF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private institutions – General Pension Societies (PT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cipation is volunta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nanced by gathered fun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62600" y="1413000"/>
            <a:ext cx="370368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Third Pillar – private initiati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Occupational Pension Programmes (PPEs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Individual Retirement Accounts (IK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Individual Pension Security Accounts (IKZ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private institutions (usually insurance compani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cipation is volunta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inanced by gathered f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New scheme - choice of insur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rsons born between 1949 and 1969 could choose whether they wanted to join II pillar or n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rsons born after 1969 had an obligation to transfer part of their contribution to II pill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From 2014 all members of OFEs have choice whether they want to continue saving in I and II pillar or just in the I pil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New scheme – entitlement and amou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Entitlement is acquired after reaching the statutory retirement age (from the 2013 reform – up to 67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The proper contributory and non-contributory period is required only in the case of increasing the pension up to the level of the guaranteed minimum pensio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imes New Roman"/>
              </a:rPr>
              <a:t>The amount of the old-age pension received from the new scheme is the sum of collected and indexed contributions and the indexed initial capital divided by the average life expectancy expressed in month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ontrib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ension insurance contribution equalls 19,52% of basic sala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 the old scheme contribution is transferred directly to Social Insurance Institution (ZU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 the new scheme contribution is divided and transfer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ompletely to ZU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tially to ZUS and OF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ontribution – new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f a person chose to save only in Z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31640" y="2492280"/>
            <a:ext cx="8208000" cy="3556080"/>
            <a:chOff x="431640" y="2492280"/>
            <a:chExt cx="8208000" cy="3556080"/>
          </a:xfrm>
        </p:grpSpPr>
        <p:cxnSp>
          <p:nvCxnSpPr>
            <p:cNvPr id="137" name="_s59405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284800" y="3164760"/>
              <a:ext cx="711720" cy="2210040"/>
            </a:xfrm>
            <a:prstGeom prst="bentConnector3">
              <a:avLst>
                <a:gd name="adj1" fmla="val 15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9404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3075120" y="3164400"/>
              <a:ext cx="711720" cy="2210760"/>
            </a:xfrm>
            <a:prstGeom prst="bentConnector3">
              <a:avLst>
                <a:gd name="adj1" fmla="val 15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9400"/>
            <p:cNvSpPr/>
            <p:nvPr/>
          </p:nvSpPr>
          <p:spPr>
            <a:xfrm>
              <a:off x="2642040" y="2492280"/>
              <a:ext cx="3788280" cy="1422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700" spc="-1" strike="noStrike">
                  <a:solidFill>
                    <a:srgbClr val="000000"/>
                  </a:solidFill>
                  <a:latin typeface="Arial"/>
                </a:rPr>
                <a:t>Contribution: 19,52%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59401"/>
            <p:cNvSpPr/>
            <p:nvPr/>
          </p:nvSpPr>
          <p:spPr>
            <a:xfrm>
              <a:off x="431640" y="4626000"/>
              <a:ext cx="3788280" cy="1422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700" spc="-1" strike="noStrike">
                  <a:solidFill>
                    <a:srgbClr val="000000"/>
                  </a:solidFill>
                  <a:latin typeface="Arial"/>
                </a:rPr>
                <a:t>ZUS account: 12,22%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59402"/>
            <p:cNvSpPr/>
            <p:nvPr/>
          </p:nvSpPr>
          <p:spPr>
            <a:xfrm>
              <a:off x="4851360" y="4626000"/>
              <a:ext cx="3788280" cy="1422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ZUS sub-account:7,3%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ontribution – new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f a person chose to save in ZUS and OF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22320" y="2206800"/>
            <a:ext cx="7755840" cy="3778560"/>
            <a:chOff x="922320" y="2206800"/>
            <a:chExt cx="7755840" cy="3778560"/>
          </a:xfrm>
        </p:grpSpPr>
        <p:cxnSp>
          <p:nvCxnSpPr>
            <p:cNvPr id="145" name="_s63501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5779080" y="2737800"/>
              <a:ext cx="756360" cy="271512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63500"/>
            <p:cNvCxnSpPr>
              <a:stCxn id="149" idx="0"/>
              <a:endCxn id="147" idx="2"/>
            </p:cNvCxnSpPr>
            <p:nvPr/>
          </p:nvCxnSpPr>
          <p:spPr>
            <a:xfrm flipV="1">
              <a:off x="4800240" y="3717360"/>
              <a:ext cx="3600" cy="75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63499"/>
            <p:cNvCxnSpPr>
              <a:stCxn id="151" idx="0"/>
              <a:endCxn id="147" idx="2"/>
            </p:cNvCxnSpPr>
            <p:nvPr/>
          </p:nvCxnSpPr>
          <p:spPr>
            <a:xfrm flipH="1" flipV="1" rot="5400000">
              <a:off x="3064680" y="2738160"/>
              <a:ext cx="756360" cy="2715120"/>
            </a:xfrm>
            <a:prstGeom prst="bentConnector3">
              <a:avLst>
                <a:gd name="adj1" fmla="val 128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63495"/>
            <p:cNvSpPr/>
            <p:nvPr/>
          </p:nvSpPr>
          <p:spPr>
            <a:xfrm>
              <a:off x="3636720" y="220680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Contribution: 19,52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63496"/>
            <p:cNvSpPr/>
            <p:nvPr/>
          </p:nvSpPr>
          <p:spPr>
            <a:xfrm>
              <a:off x="922320" y="447408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ZUS account: 12,22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63497"/>
            <p:cNvSpPr/>
            <p:nvPr/>
          </p:nvSpPr>
          <p:spPr>
            <a:xfrm>
              <a:off x="3636720" y="447408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ZUS sub-account: 4,38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63498"/>
            <p:cNvSpPr/>
            <p:nvPr/>
          </p:nvSpPr>
          <p:spPr>
            <a:xfrm>
              <a:off x="6351480" y="4474080"/>
              <a:ext cx="2326680" cy="15112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Arial"/>
                </a:rPr>
                <a:t>OFE account: 2,92%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ension Systems in Polan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highest number of insured in Poland is in the Universal Pension Syst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xceptions for some professional groups included in the Universal Pension System, e.g. miners, teachers, railways employees, etc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xclusions from the Universal Pension System, e.g.: uniformed services, farmers, etc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Bridging old-age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instrument of tackling the unemploy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result of the withdrawal of the earlier pens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cquired by only limited group of employees who performed work in special conditions or special character (e.g. miners, steel mills workers, divers, fisherme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Uniformed Services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"/>
              </a:rPr>
              <a:t>Police, Armed Forces, State Fire Service, etc.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"/>
              </a:rPr>
              <a:t>Legally based in the acts regulating functioning of the service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imes New Roman"/>
              </a:rPr>
              <a:t>Maintained by special institutions, e.g. Ministry of Internal Affairs Pensions Institution (ZER MSW) or Military Pensions Bureaus (WB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71880" y="2516040"/>
            <a:ext cx="38149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Farmers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egally based in the Act of 20 December 1990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on social insurance of farmer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intained by the special institution – Agricultural Social Insurance Fund (K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27840" y="4154400"/>
            <a:ext cx="1793880" cy="1903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84960" y="1628640"/>
            <a:ext cx="298260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rosecutors and judges pen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egally based in the acts regulating functioning of the common courts, The Supreme Court and the prosecu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intained by the Ministry’s of Justice Department of Human Resources (Retired Judges and Prosecutors Divis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60920" y="2206800"/>
            <a:ext cx="402588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Incentives for longer work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irect construction of the pension schemes: the longer you work – the more you will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ssibility of receiving pension and performing wor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ather low amount of pens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ithdrawal of earlier pens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mitation of the access to the bridging pen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Disincentives for longer work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olongation of the retirement ag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ow salaries in the national econom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ifficulties on the labour mark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ack of confidence to state institu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iredness of life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 in Polan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egally base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13 October 199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the social insurance system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3, text 1442, as amende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17 December 199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pensions from the Social Insurance Fund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3, text 1440, as amende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21 November 200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funded old-age pensions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4, text 1097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28 August 1997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organisation and operation of old-age pension funds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13, text 989, as amende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he Act of 19 December 2008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on bridging old-age pensions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(Journal of Laws of 2008 No. 237, text 1656, as amende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 in Poland – statistic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ocial Insurance Institution pays benefits to       4.5 million of pensioners in Poland, but the number is decli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amount of pensions paid from the Social Insurance Fund (FUS) equalled approx.            10.2 billion of PLN (approx. 2.43 billion EU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The average monthly pension delivered equalled 2050 PLN (approx. 485 E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 in Poland – index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nual indexation carried out from 1 Mar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sed on fixed indexation rate (in 2014 – 101,6%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dexation rate is established annually by the Tripartite Commission for Socio-Economic Issues or, if not agreed by the members of the Commission - by the regulation of the Council of Minis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Index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in factor of the indexation rate – infaltion r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Higher infation – higher index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ue to the low inflation rate in Poland, from 2015 there will be percentage indexation with guaranteed minimum increase of 36 PLN (approx. 8 EUR) for all benefits lower than 3333,33 PLN (approx. 788 E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Universal pension system– general inform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ld-age pension scheme was reformed in 199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 old-age pension schemes operating parale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ld scheme - for persons born before                1 January 194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ew scheme - for persons born after               31 December 194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Old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naged by Social Insurance Institution (ZU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Pay-as-you-go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yst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Vulnerable to demographic thre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1880" y="2540160"/>
            <a:ext cx="38149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Old sche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ntitlement to pension is acquired af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) reaching the statutory retirement 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60 years for wom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65 years for m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) completing contributory and non-contributory peri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0 years for wom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5 years for 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09:55:30Z</dcterms:created>
  <dc:creator>Dominik Komorek</dc:creator>
  <dc:description/>
  <dc:language>en-US</dc:language>
  <cp:lastModifiedBy>Dominik Komorek</cp:lastModifiedBy>
  <dcterms:modified xsi:type="dcterms:W3CDTF">2014-12-12T07:26:48Z</dcterms:modified>
  <cp:revision>40</cp:revision>
  <dc:subject/>
  <dc:title>Polish Pension System</dc:title>
</cp:coreProperties>
</file>